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521257"/>
        <c:axId val="26512659"/>
      </c:barChart>
      <c:catAx>
        <c:axId val="585212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512659"/>
        <c:crosses val="autoZero"/>
        <c:auto val="1"/>
        <c:lblAlgn val="ctr"/>
        <c:lblOffset val="100"/>
        <c:noMultiLvlLbl val="0"/>
      </c:catAx>
      <c:valAx>
        <c:axId val="265126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5212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53C3-FAB2-4691-B1CC-C4CB2D58B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B42A-823C-49D4-B8C3-83319848E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7237-D0DB-4749-B35F-1082BBFD7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750B-9714-4B4F-8AC6-7275B91D9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B798-226C-433A-82D3-0CC032B1B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3299-4FF5-4636-A8E6-F6F0ED03E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764F-0F50-437E-9AD0-B212BB5BE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D40A-7338-4867-9FAA-E2EF61FC3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4BA7-D263-46F9-A6D2-8E486A74E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10DD-5E50-4B4A-8F28-02A54AEB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2C10-F3C9-4E31-817B-7B4F31E9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AE7A-5BDA-4EB0-93FC-671009FD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218497-E936-45EA-9AAF-654C554AED1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