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11379"/>
        <c:axId val="20715996"/>
      </c:barChart>
      <c:catAx>
        <c:axId val="83211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15996"/>
        <c:crosses val="autoZero"/>
        <c:auto val="1"/>
        <c:lblAlgn val="ctr"/>
        <c:lblOffset val="100"/>
        <c:noMultiLvlLbl val="0"/>
      </c:catAx>
      <c:valAx>
        <c:axId val="20715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11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BC0-C1F9-498A-9C29-3850328F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711-B949-4717-B14B-55B6CFDD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508-9D23-4F0E-8613-805B73D0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E46-0B25-4136-B2C6-9091A9A1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5EC-E6F3-4117-B5D6-71D56899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175-F3E8-492B-ABFF-E8BD105C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EF4-478D-44FC-814A-F280E288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CF4-4ECA-42E6-BF21-A4F9E88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C0E-73AE-488E-AA60-85EED298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04B-89A6-4F99-81D4-4B86D4F5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1D0-7647-44A6-B20B-8165DC9A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2D5-CC33-457E-963A-CBD3A8B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1CCD2-B8F5-4963-9947-141436424C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