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08397"/>
        <c:axId val="31170315"/>
      </c:barChart>
      <c:catAx>
        <c:axId val="10808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70315"/>
        <c:crosses val="autoZero"/>
        <c:auto val="1"/>
        <c:lblAlgn val="ctr"/>
        <c:lblOffset val="100"/>
        <c:noMultiLvlLbl val="0"/>
      </c:catAx>
      <c:valAx>
        <c:axId val="31170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08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918-E19B-4BF4-9D6E-5E8F2A5E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27A-957A-4735-A3AA-92B986FB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C2E-AF72-4A75-8CF8-65FD683B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2F7-70E1-475F-A955-AEEC57AF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E17-8AB8-4372-B2D8-80571F51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5A8-42FB-4010-8A93-3EFAC0AD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4E6-CBB5-4A8D-BC7D-8E5FAD89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3CB-097E-40E6-BE09-8EAB815D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FA6-9D7A-4197-8C2B-B1592D59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5BC-6BC6-4674-B033-3DED3C77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A62-BC4A-4BCF-9767-2082C96E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FE2-8019-4C40-A17D-B97701A4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FBECD-A0B4-4B68-B6AD-95E58E4621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