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79582"/>
        <c:axId val="8514315"/>
      </c:barChart>
      <c:catAx>
        <c:axId val="45179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4315"/>
        <c:crosses val="autoZero"/>
        <c:auto val="1"/>
        <c:lblAlgn val="ctr"/>
        <c:lblOffset val="100"/>
        <c:noMultiLvlLbl val="0"/>
      </c:catAx>
      <c:valAx>
        <c:axId val="8514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79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01C-962E-45FA-B7A8-1CA2094C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662-192F-4346-B15A-E49F9D98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66F-109F-43F7-8378-347D5C25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ECB-CF40-43DC-999A-170D5091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BDC-9945-46C7-92EF-D3F797B9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53C-43B3-4EE5-9A7E-C3E97873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E98-8AAC-4B3F-A1C5-761B1052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6F1-192F-43F3-ACFD-3B826295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8E1-0F40-412B-A76C-53857C3C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B9E-C5CE-46A8-B589-3A036437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45D-06F4-4FEA-B93D-6AA6B22E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09D-8AE6-4EDD-9915-6F2DBC4E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D0D59-D131-41CD-BF45-9D6F631139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