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97422"/>
        <c:axId val="51260084"/>
      </c:barChart>
      <c:catAx>
        <c:axId val="61097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60084"/>
        <c:crosses val="autoZero"/>
        <c:auto val="1"/>
        <c:lblAlgn val="ctr"/>
        <c:lblOffset val="100"/>
        <c:noMultiLvlLbl val="0"/>
      </c:catAx>
      <c:valAx>
        <c:axId val="51260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97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94F-54D0-4881-A63C-422EDA1A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165-D02C-4241-A480-A1AFF96D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950-5AE2-4679-A867-25B67E13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3AA-C5F6-47DF-88B2-A88EE3C4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0D9-A2F1-43FC-877A-F6C3214F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CAA-B6E1-4F35-BCE8-DEB859EA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EC5-728C-436C-9326-0824740A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EB3-FFE5-41D3-9172-40BDBB9E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461-13D9-488D-9EBE-0CDFBB9A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B14-6EB6-47BE-AF1B-5081B86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727-9B07-423B-9ECE-D3C1061A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699-84FB-4120-87E5-63A68719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D7F7D-2D86-4EC2-9E3F-BE79BE1A8A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