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04465"/>
        <c:axId val="57292158"/>
      </c:barChart>
      <c:catAx>
        <c:axId val="38604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2158"/>
        <c:crosses val="autoZero"/>
        <c:auto val="1"/>
        <c:lblAlgn val="ctr"/>
        <c:lblOffset val="100"/>
        <c:noMultiLvlLbl val="0"/>
      </c:catAx>
      <c:valAx>
        <c:axId val="57292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4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555-487E-4B7E-8A0D-FC42BD41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B80-8B3C-4340-99B4-3196DF6B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A1D-D9A8-44A6-8534-9E69EB58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AD2-8336-423D-AA37-DB940591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F88-FB47-4CCF-9743-77F8938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E18-1565-44AB-B0FA-67E2D619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5EE-A6C9-4D31-AA46-E752805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609-BD43-4F62-A838-B9F15986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9A3E-C2F0-4F43-B4F5-9286CC6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9B4-0B2C-455A-9343-C19D7A7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A1F-9AFF-4EF0-AABD-61A83C5C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967-630F-4E52-B438-CFBF21A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6EB63-3FC5-4BC5-81D8-8B2B5E9636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