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62237"/>
        <c:axId val="21528724"/>
      </c:barChart>
      <c:catAx>
        <c:axId val="51562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28724"/>
        <c:crosses val="autoZero"/>
        <c:auto val="1"/>
        <c:lblAlgn val="ctr"/>
        <c:lblOffset val="100"/>
        <c:noMultiLvlLbl val="0"/>
      </c:catAx>
      <c:valAx>
        <c:axId val="21528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62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BC5-22D2-4D17-BB2B-5AAC8772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31D-CD46-412F-B10B-1C1CAEFB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3C7-BE77-4005-A9A6-7F52A3FD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1079-DC3F-4B98-B5C0-E76BF14D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4FC-BBAE-43A8-8114-4D92E3A0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2062-0300-482D-A58B-4B622FB3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DF5-28DE-44E0-8055-E0DDE21F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428-5485-4DFA-B032-C64D4757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EF1-CBF3-4045-9814-DF65A24A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41A2-AC5C-4D0D-B6B3-E13B55D8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FD5D-18BB-4BC7-8D11-3BE7E5F7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984A-FF40-49BE-BC98-E6CB4624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0E9DA-1F88-4A33-A3AE-554C845E03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