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06362"/>
        <c:axId val="31004432"/>
      </c:barChart>
      <c:catAx>
        <c:axId val="28006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04432"/>
        <c:crosses val="autoZero"/>
        <c:auto val="1"/>
        <c:lblAlgn val="ctr"/>
        <c:lblOffset val="100"/>
        <c:noMultiLvlLbl val="0"/>
      </c:catAx>
      <c:valAx>
        <c:axId val="31004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06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6AB-4AFD-4D66-9C6A-669769B1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FD5-5007-44F9-8749-E9A68444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B46-2F2C-4F06-A10A-96F9C8F1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845-ACC1-4ADA-8831-625343BB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FC0-BCEB-428E-A114-D6FEDA3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098-ECD9-44B7-AE10-4AD6EFC7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D82-EC45-4D81-912A-31CB948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BAE-63B8-49F2-8C52-DB21B58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754-7DC0-47FB-851B-0B51355C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85E-B5D3-4CE3-9598-8BB9D59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F9F-A5AE-442D-B5FC-391D6A2B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EC2-CA0F-460E-8909-864A7FF6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6FF5F-D489-4A56-89B9-CD29BECC19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