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0190"/>
        <c:axId val="13485944"/>
      </c:barChart>
      <c:catAx>
        <c:axId val="5050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85944"/>
        <c:crosses val="autoZero"/>
        <c:auto val="1"/>
        <c:lblAlgn val="ctr"/>
        <c:lblOffset val="100"/>
        <c:noMultiLvlLbl val="0"/>
      </c:catAx>
      <c:valAx>
        <c:axId val="13485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0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DAF-CC7F-4DF4-8C67-12DE4C3B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3A6-01B1-41D0-8BBF-4E37C2B3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DE0-D0F2-4265-908A-EE5E8937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945-EF00-4A50-9F43-066FBDF2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FED-3226-4503-A2B5-C88D3478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83F-4B0F-48FB-84C0-05856D5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8BD-2E66-46C4-AAC0-46F5078D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E2C-ADCD-471D-9688-0601563A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796-F96D-41EE-8730-46B7F2AA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44A-2006-4BA7-933F-DCF6E44D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1DF-3406-4815-98EE-C2131BFF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B23-0011-424A-AEFF-547805B1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DED44-AB8E-4449-B4CD-A3C6D80E92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