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96025"/>
        <c:axId val="46010832"/>
      </c:barChart>
      <c:catAx>
        <c:axId val="47496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10832"/>
        <c:crosses val="autoZero"/>
        <c:auto val="1"/>
        <c:lblAlgn val="ctr"/>
        <c:lblOffset val="100"/>
        <c:noMultiLvlLbl val="0"/>
      </c:catAx>
      <c:valAx>
        <c:axId val="46010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96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A33-86FF-4A63-B867-467D9760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2BB-6029-4A5E-A7F1-209DFFD8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818-AE90-4EF2-8502-1744DE57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E69-E1BC-4184-AE96-86DE6EC7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038-34CF-4746-AD12-F20DC22D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F8D-B2A7-49F0-BC99-0A7FE068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313-EF2F-42CB-B3D9-7CA5489C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A80-FE50-40B0-AF0F-D1CFAD01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D8F-BFDC-4056-A6E0-252D3C9D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EB5-0CC4-421F-B63C-7CE847A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52A-5C28-4B07-B3B3-47F4232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5B1-ACFD-490B-A07B-ED0E8BC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F3B1F-EB0A-4A60-9F08-1696161264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