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64015"/>
        <c:axId val="96927449"/>
      </c:barChart>
      <c:catAx>
        <c:axId val="511640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27449"/>
        <c:crosses val="autoZero"/>
        <c:auto val="1"/>
        <c:lblAlgn val="ctr"/>
        <c:lblOffset val="100"/>
        <c:noMultiLvlLbl val="0"/>
      </c:catAx>
      <c:valAx>
        <c:axId val="96927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640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089-1E1F-481F-902C-5F5E1173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3B7-3A23-46DF-A0C9-A4E986BA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15F-8F02-41F5-81FB-1F33EF87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161-5B26-43CD-BBA9-10357A69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185-B07E-405D-A1DB-3B1AEB71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1C5-476C-4AC4-B0F7-73D7D5C1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D05-D797-4A0D-B3C2-2D3EE9F9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701-125F-4EAD-8A13-F69A6D76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7A0-9D15-40EF-9823-068D2228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AA9-BAC6-4FB9-A808-2AD5BC9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C90-900F-4D65-B989-E7459C94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B50-C542-4170-96B2-A8D84132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DD95F-76DB-4DFA-8604-ACC0FE3A09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