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92745"/>
        <c:axId val="91588270"/>
      </c:barChart>
      <c:catAx>
        <c:axId val="48592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8270"/>
        <c:crosses val="autoZero"/>
        <c:auto val="1"/>
        <c:lblAlgn val="ctr"/>
        <c:lblOffset val="100"/>
        <c:noMultiLvlLbl val="0"/>
      </c:catAx>
      <c:valAx>
        <c:axId val="91588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2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E0A-3C81-4E98-9521-21030B61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A23-3881-464F-8792-19A08C2A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DEA-2CF2-4C14-9378-BB827657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7E7-DEAA-4FAB-99DF-3A9716D9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D95-FFD8-4385-A775-B012A251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9CE-2942-47CB-A2DE-5BC5C7D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09E-27D3-4675-BECF-DB33876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14E-578B-4EE0-8C71-7277E7F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F54-F6F8-46CF-BBA3-57366C07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6FD-5993-420B-B049-ECA7AE27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2D1-E298-44D3-9366-2CCD3F9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6D8-6619-4112-A284-8FEDA79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332DA-1166-451A-9B21-612364D5CA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