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091002"/>
        <c:axId val="71867793"/>
      </c:barChart>
      <c:catAx>
        <c:axId val="340910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67793"/>
        <c:crosses val="autoZero"/>
        <c:auto val="1"/>
        <c:lblAlgn val="ctr"/>
        <c:lblOffset val="100"/>
        <c:noMultiLvlLbl val="0"/>
      </c:catAx>
      <c:valAx>
        <c:axId val="71867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910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AFB8-D06F-4FE2-B55A-3CD03FC9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9900-49D1-4548-A843-7875E09A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B47-2257-42FB-8A00-C1CD39C5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CA5-68AF-41F2-ACF2-06F45638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CB66-8CA3-4365-84D4-AF66E62D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49D8-3387-410F-8256-AA678EDE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91D1-DE76-4489-8B9B-DB691659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F828-8357-4DDA-9484-AF51D84F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F7ED-13F4-47B4-B180-F1EF6963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6E4F-C1CA-4111-8D23-ACB6B388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65D6-52BE-4D92-856D-C2B8A803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6572-5913-48F3-9437-92DBF3D8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6F030-279C-4BB5-B79B-0ED4C46ADC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