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64036"/>
        <c:axId val="76119015"/>
      </c:barChart>
      <c:catAx>
        <c:axId val="87640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19015"/>
        <c:crosses val="autoZero"/>
        <c:auto val="1"/>
        <c:lblAlgn val="ctr"/>
        <c:lblOffset val="100"/>
        <c:noMultiLvlLbl val="0"/>
      </c:catAx>
      <c:valAx>
        <c:axId val="761190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40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CC82-EB3A-4E45-8806-235DFD6A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F36F-603A-4F03-B8F0-EDFEC258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219D-4034-45E6-8B2D-71A45464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7813-E0ED-4A8C-A8BB-4EE615F9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9188-A649-43DF-8CB4-77C4BE2B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6F3E-FA0A-42CA-B080-83F0A2DB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8D28-5DA6-467E-9CDC-9B5E9449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19E8-2C0D-4CC9-B0EF-E911BA2C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60F2-EF3E-4904-8331-D30A361B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2556-6D3B-4F6C-8827-811B7681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4978-775B-4FCD-9714-D05A9AB5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D2B8-22F9-4E41-974B-A3B1F2F3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A592E-6096-4F8A-B93D-A868514104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