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94479"/>
        <c:axId val="12883789"/>
      </c:barChart>
      <c:catAx>
        <c:axId val="633944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83789"/>
        <c:crosses val="autoZero"/>
        <c:auto val="1"/>
        <c:lblAlgn val="ctr"/>
        <c:lblOffset val="100"/>
        <c:noMultiLvlLbl val="0"/>
      </c:catAx>
      <c:valAx>
        <c:axId val="12883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944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0F0-D3CE-4B3F-A6FB-826FC967A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0195-2545-4005-A673-5CB74FF7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8E41-605E-45A6-BAEC-E57A4D41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632-248A-4D65-9AE0-A78983059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063A-2256-489E-9E83-30107E1B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B32A-7D0E-42E5-9C7C-AE521231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9DBA-2175-4555-AE7A-D98883AF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26A3-D2B7-4712-86ED-9DD3D24F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C75-4536-4698-829E-0B98C19B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4EBB-EFAB-4807-A220-6F8BB87F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5710-B42F-4261-86BE-3B6A300D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759-23D2-4A9C-9382-E632540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9D72B-AACE-46E1-ACF4-C9594A1760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