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12695"/>
        <c:axId val="54302724"/>
      </c:barChart>
      <c:catAx>
        <c:axId val="65512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02724"/>
        <c:crosses val="autoZero"/>
        <c:auto val="1"/>
        <c:lblAlgn val="ctr"/>
        <c:lblOffset val="100"/>
        <c:noMultiLvlLbl val="0"/>
      </c:catAx>
      <c:valAx>
        <c:axId val="54302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12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103-82B2-4A4F-B082-D72765F7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6ED-4F63-4E35-B40A-8FABE62F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CE8-B916-44FF-82B0-88B18739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476-3BFF-4202-9824-E219C0AF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01A-7A86-47CC-986A-5BBE8464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D57-2804-43AD-889E-8AF70069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3E4-3EDA-4FB0-89FD-D9BBB76E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44E-9A3E-4250-B321-D302FC0C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5C7-4D2B-4159-B4D7-05890513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1DD1-459B-4EBE-94FA-77923CA3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4C3-6F17-4344-9230-221F64C3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0D4-5736-4DB1-8498-9F272823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179F4-AC47-4263-93A5-B3376204FF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