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79910"/>
        <c:axId val="42090424"/>
      </c:barChart>
      <c:catAx>
        <c:axId val="92579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0424"/>
        <c:crosses val="autoZero"/>
        <c:auto val="1"/>
        <c:lblAlgn val="ctr"/>
        <c:lblOffset val="100"/>
        <c:noMultiLvlLbl val="0"/>
      </c:catAx>
      <c:valAx>
        <c:axId val="42090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9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437-2B03-4FB6-8DEB-1AD1119C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E9D-9E08-47F3-AF99-DFB0F668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98B-3440-43B7-9889-2E38D72D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98A-D1C5-4A0B-9BC8-DEB98349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6CD-9D59-4463-A461-54FF9F5F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849-E0FA-4B09-B93F-9D7706B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CBC-B5E1-4CBC-A70D-326FA5F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2DF-DA16-4E6F-8048-ACB5E792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0B3-7EEA-4182-9FEB-D49E065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8D0-E5A2-4225-93D5-96A35A8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01F-41D8-4D4C-A19D-9BBCEA24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822-FF6D-44AC-ABC5-9F57CB6C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9B769-7395-47C4-AA00-9BB23FAC1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