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732489"/>
        <c:axId val="44236026"/>
      </c:barChart>
      <c:catAx>
        <c:axId val="637324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236026"/>
        <c:crosses val="autoZero"/>
        <c:auto val="1"/>
        <c:lblAlgn val="ctr"/>
        <c:lblOffset val="100"/>
        <c:noMultiLvlLbl val="0"/>
      </c:catAx>
      <c:valAx>
        <c:axId val="442360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7324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8F6E-AF93-4F17-A5F5-177485E4F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A070-5D81-4134-95DC-EDC63D8AA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2E0E-F7FD-44BA-ACF9-BFF6CC27B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282A-77AC-4550-9DFD-4EC317B0B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5F4C-93FB-4923-BEDA-E5AC77BFA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B9FE-BE3B-4AB0-8F69-F4795E1A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6B34-B6A1-4581-B573-80FA8632D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89FE-FBB0-4DDE-8D14-1849DEDA1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4487-9D49-49E5-81B1-B217EFC4F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2AC5-10C0-43A2-8C4D-F5AFB51E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3248-CD13-4F0A-BEC6-9CE17FB3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6336-8AA4-462A-88A4-AB16C73A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D11AF1-5052-4A8D-886B-5FDEFDB8EA7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