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1098"/>
        <c:axId val="97661662"/>
      </c:barChart>
      <c:catAx>
        <c:axId val="7161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61662"/>
        <c:crosses val="autoZero"/>
        <c:auto val="1"/>
        <c:lblAlgn val="ctr"/>
        <c:lblOffset val="100"/>
        <c:noMultiLvlLbl val="0"/>
      </c:catAx>
      <c:valAx>
        <c:axId val="976616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1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3BEB-9568-4FAE-8D92-7E50AB8A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9A0-0F9D-40CF-93EB-80E70317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2C2-1C17-42CC-8567-09541C8E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72E6-9E6F-4BC9-AB46-CAB79883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3F03-4648-4589-BC18-C071AD9E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25C1-869E-49FE-9CFD-6376F389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8486-4E9A-4539-8CF2-D06DC4AE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37D-18BB-478B-A4EC-5106A314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623-7695-4465-8345-0D3E1F80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0C7-D748-47D2-A471-B539B664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866-6CF4-4D24-8473-3FF54495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DA25-DD11-41FD-9BE2-46967099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F5204-B9EA-4A35-B99F-672FCEFEAC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