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018262"/>
        <c:axId val="81353186"/>
      </c:barChart>
      <c:catAx>
        <c:axId val="920182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53186"/>
        <c:crosses val="autoZero"/>
        <c:auto val="1"/>
        <c:lblAlgn val="ctr"/>
        <c:lblOffset val="100"/>
        <c:noMultiLvlLbl val="0"/>
      </c:catAx>
      <c:valAx>
        <c:axId val="813531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182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1D2B-8460-460E-B8DC-98167974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09EF-94DB-487E-B1A0-0AF4D197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DEDE-E87B-4C4E-86F1-C480A5461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CF4F-9175-434A-955D-1A79A9B31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B05D-C5DC-4536-A533-952FF259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7E01-252C-4F1A-8856-705571FB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E56D-8714-492B-9350-8199167F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5E20-ADA0-4B5D-BBB5-E68B8C98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C88B-A0EC-46E2-AEC8-CDD567E3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7A2F-07DB-4F42-8472-B8AAAD81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2175-2A74-4091-B04C-6D1BAAD0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EAC0-55B7-40A5-8161-8F606E26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67000-751F-46EC-BB22-88A20C5288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