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52554"/>
        <c:axId val="28279933"/>
      </c:barChart>
      <c:catAx>
        <c:axId val="87852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79933"/>
        <c:crosses val="autoZero"/>
        <c:auto val="1"/>
        <c:lblAlgn val="ctr"/>
        <c:lblOffset val="100"/>
        <c:noMultiLvlLbl val="0"/>
      </c:catAx>
      <c:valAx>
        <c:axId val="28279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2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999-2241-4771-A1ED-41C024F7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91C-C9C6-4B6A-87FD-7482475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1B-6599-4368-ADEB-019D81D6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7F1-1AC4-4747-B15F-306A0706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29D-2BB4-4396-B226-4303D5CB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325-12C8-48A2-9DFC-648308BC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DED-B11E-484C-AC0C-86AA9D34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D66-ED59-49CB-A84D-73A88FA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908-5A80-40BC-9869-C78753E7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F2A-FFB3-4275-A994-4470DD7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98B-5C05-44B5-BFEC-C8338FD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EDB-8432-4D46-B60D-6C6A094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8817-E882-4AB7-A655-D62F0A815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