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86837"/>
        <c:axId val="60946659"/>
      </c:barChart>
      <c:catAx>
        <c:axId val="41386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46659"/>
        <c:crosses val="autoZero"/>
        <c:auto val="1"/>
        <c:lblAlgn val="ctr"/>
        <c:lblOffset val="100"/>
        <c:noMultiLvlLbl val="0"/>
      </c:catAx>
      <c:valAx>
        <c:axId val="60946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86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C8B-92CF-4F93-8496-5994E924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675-A991-4C59-B798-5CB9C11C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BA8-3656-435E-8D99-712CBF4A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B48-74BC-4EAB-A726-2CB46753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797B-2A71-47C4-9F88-7C77F196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793-ED85-46E2-8EDD-BD72EB92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5D4-5A27-4C4E-B758-4B752A19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25C-B2ED-4C7B-B2E1-FB3B9D41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6C8-32D0-441D-87B7-F413B734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A87-755C-40C3-ABE8-53CCA14C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2A89-AD69-4D47-9F50-E7ED49A1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E838-1C16-4CC2-9588-7771E0AD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2AF0B-D703-4477-BC36-05531584F2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