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275437"/>
        <c:axId val="15327279"/>
      </c:barChart>
      <c:catAx>
        <c:axId val="312754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27279"/>
        <c:crosses val="autoZero"/>
        <c:auto val="1"/>
        <c:lblAlgn val="ctr"/>
        <c:lblOffset val="100"/>
        <c:noMultiLvlLbl val="0"/>
      </c:catAx>
      <c:valAx>
        <c:axId val="153272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754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96BD-339D-4209-A9DE-82DF007D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CFED-4236-486D-8B1A-B9F0478A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34DF-93CE-4516-AAAA-68860621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E813-ED0C-47AC-A825-D8704281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4DF9-5597-4AC5-AAA6-455AAAA8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550B-C6F7-4A10-BCF7-D8AB8444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8CEE-DB2D-44F7-9F1B-A2AFDEB7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7E3E-0EBC-46AD-A71A-99AB7A2C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3DAA-183F-4424-91BA-86F1EF09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4D49-F91F-44F0-AF31-E538A763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A804-6C4D-4575-A465-F6845440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3521-1400-4C5F-A088-79D97027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DF31C-419E-4CA0-A99C-B02B658631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