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40523"/>
        <c:axId val="96017845"/>
      </c:barChart>
      <c:catAx>
        <c:axId val="77040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17845"/>
        <c:crosses val="autoZero"/>
        <c:auto val="1"/>
        <c:lblAlgn val="ctr"/>
        <c:lblOffset val="100"/>
        <c:noMultiLvlLbl val="0"/>
      </c:catAx>
      <c:valAx>
        <c:axId val="96017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40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F98-B9C4-4B89-9863-F69E2C0B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ABD-3244-4499-BF94-B6E98A4A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B76-DA13-43A8-B752-88900251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634-BCA8-401E-BEFC-C5829D37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8FB-2292-438A-9ABC-443754AD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356-E3D8-4C1B-A823-9E85C62A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1B3-ACEE-4F25-8D1D-3D33B9A3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0FC-9BC4-4506-B4BF-9F515469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313-9091-44F0-92F4-38F0F3BC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01B-8596-4BA9-A0C5-0FA6458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D09-7293-43E7-8E9F-8B55447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4D5-39C0-452F-A685-4F24260A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57E1D-34F8-4E2A-B5ED-0CF5C28A78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