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86874"/>
        <c:axId val="67268392"/>
      </c:barChart>
      <c:catAx>
        <c:axId val="93586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68392"/>
        <c:crosses val="autoZero"/>
        <c:auto val="1"/>
        <c:lblAlgn val="ctr"/>
        <c:lblOffset val="100"/>
        <c:noMultiLvlLbl val="0"/>
      </c:catAx>
      <c:valAx>
        <c:axId val="672683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86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880-DED4-4BDB-9132-66DA43B9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D38-C89E-4540-B4BD-DE2342FD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3DD-9075-47CB-AF64-AE8CB3D6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09F-01B2-43C7-9212-7803F98F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366-CC66-477D-A684-F9F02A11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F52F-BD99-4900-A844-698CB76F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F7D6-1368-4C92-99DA-BA4BADF1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79CA-1DEB-482D-85C6-6D064E37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E76-6A22-4816-AD5E-C901CB9A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D51-2E47-4A79-9451-C845E924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E89-C280-4ED5-8C4C-F119C2C3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C437-376C-4C0E-99C2-619B6596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ACC45-ACBC-4F82-AC5A-06F36FA6A8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