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1535"/>
        <c:axId val="32795868"/>
      </c:barChart>
      <c:catAx>
        <c:axId val="2901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95868"/>
        <c:crosses val="autoZero"/>
        <c:auto val="1"/>
        <c:lblAlgn val="ctr"/>
        <c:lblOffset val="100"/>
        <c:noMultiLvlLbl val="0"/>
      </c:catAx>
      <c:valAx>
        <c:axId val="32795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1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740-2F23-4EC9-A556-D8D745E7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D62-2B08-49AA-8CAA-78F8AA8E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D2B-4553-42CA-BA22-BB12C23D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3BC-D4A7-4BA7-BF65-642B6D88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042-67DA-4AED-8CAA-A3AB4468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11A-D64C-4657-9928-0B87D73B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186-8DCC-43B1-A931-FB32D37C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EDB-D977-4392-8899-C99C51FD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FB1-00B5-4ABC-A7F5-D00711E5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49B-5D1D-496A-A34D-C0EB176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740-8BDB-4B57-864F-BB783AC2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351-F28D-4148-B7B7-E547EAFD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3073F-2A60-4D0E-8E4F-42FA770A5E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