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795845"/>
        <c:axId val="89193971"/>
      </c:barChart>
      <c:catAx>
        <c:axId val="317958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193971"/>
        <c:crosses val="autoZero"/>
        <c:auto val="1"/>
        <c:lblAlgn val="ctr"/>
        <c:lblOffset val="100"/>
        <c:noMultiLvlLbl val="0"/>
      </c:catAx>
      <c:valAx>
        <c:axId val="891939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7958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F97D-912C-4224-A0A5-4F2B0E80D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80A9-9B1B-4315-93FB-CDA6808CC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9846-9685-4A19-87AD-B393DF4E4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3C30-4702-4096-A84B-FB6B58D7F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5D2A-B2B3-4554-ADE6-DCB56FEA8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18A5-54AB-4224-A170-86DA637FE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202B-90E5-43CE-B75B-FF408F6BE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65F8-1990-4351-B91B-C1DF8B35E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6B02-57E5-491A-BBA2-DC616A060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2A5B-B998-47D0-9FCA-54C8C1A1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26B1-6071-4855-AFED-9B8124C4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D195-4DC6-467D-98D4-3C80DF95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CC2B03-9D59-491A-9105-37E1E31D1BE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