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92120"/>
        <c:axId val="24778120"/>
      </c:barChart>
      <c:catAx>
        <c:axId val="88992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78120"/>
        <c:crosses val="autoZero"/>
        <c:auto val="1"/>
        <c:lblAlgn val="ctr"/>
        <c:lblOffset val="100"/>
        <c:noMultiLvlLbl val="0"/>
      </c:catAx>
      <c:valAx>
        <c:axId val="24778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2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2A5-8D60-430E-B533-DB66AF67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389-29E0-4C94-A8B0-88F19A73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E1B-5B6A-482F-B383-33411A4E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497-08D9-4C06-8D0C-F2DECD9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190-0DB7-4D27-BB3B-7A2C46A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6D2-A047-498F-B757-E4E69BB2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7B3-B2DD-4D91-8FC5-C1DD4486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ECD-1E2E-4B44-88A9-F90C46ED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BB5-D6F9-4A93-87BC-EF8D35ED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079-6F24-436F-8A81-BD41D20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146-47A1-42D6-977B-7F3CBFC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4BD-A14B-403E-82D7-DCAC6BB4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F489-2225-437D-9C48-0EE73C276F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