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49145"/>
        <c:axId val="69782431"/>
      </c:barChart>
      <c:catAx>
        <c:axId val="99549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82431"/>
        <c:crosses val="autoZero"/>
        <c:auto val="1"/>
        <c:lblAlgn val="ctr"/>
        <c:lblOffset val="100"/>
        <c:noMultiLvlLbl val="0"/>
      </c:catAx>
      <c:valAx>
        <c:axId val="69782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49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770-3B06-4602-B31D-71A5031E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F95-C7B6-48A1-A5FA-1340F9D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51B-E76B-4D1E-87D4-883F2B62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930-48AC-486F-970D-823BE96A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4F5-1F0E-4C98-BA54-4613F986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C6D-D13E-4C6A-80B4-8A1335C6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3E0-3315-4E51-AB06-85DB120E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964-A1F9-450D-A2FC-40966B2B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367-D6A9-4EBF-B640-BD12E50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338-D481-4430-B444-142905A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A3B-07CD-437B-B153-C79C712D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F1B-5141-4C0A-816C-86D6045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1E1F1-A40D-4B6E-AE6B-4040D0247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