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56192"/>
        <c:axId val="69074341"/>
      </c:barChart>
      <c:catAx>
        <c:axId val="86656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74341"/>
        <c:crosses val="autoZero"/>
        <c:auto val="1"/>
        <c:lblAlgn val="ctr"/>
        <c:lblOffset val="100"/>
        <c:noMultiLvlLbl val="0"/>
      </c:catAx>
      <c:valAx>
        <c:axId val="69074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6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1F2-B696-486C-A7A5-6C6791A2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888-8A14-4B14-8ADD-0660039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469-CCDD-4736-812E-2D4E4D10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644-C5E5-409D-8CDB-3CEEC200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9B8-55A6-4E3A-953F-16E8799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770-942D-4F1C-A8E7-9FBFEBBC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3B6-F706-4598-B059-A48F900F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9F9-3696-4B5B-8806-4945C930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045-C20E-4595-AE1A-DBE0FDF6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9E8-F15D-4E1D-AE2E-969B0AA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E38-3653-414D-8BFB-220D888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931-B064-49DC-9D79-CDE8C2F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E7180-998C-4AB7-8020-449CD97C5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