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13769"/>
        <c:axId val="28833223"/>
      </c:barChart>
      <c:catAx>
        <c:axId val="14713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33223"/>
        <c:crosses val="autoZero"/>
        <c:auto val="1"/>
        <c:lblAlgn val="ctr"/>
        <c:lblOffset val="100"/>
        <c:noMultiLvlLbl val="0"/>
      </c:catAx>
      <c:valAx>
        <c:axId val="28833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3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3D2-0E02-4998-BC4F-6B1BA116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FE7-5E50-498E-926E-38478076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777-7F3E-4EAC-AE6C-FFAF3619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DE2-F9B6-44C0-BD54-365AC518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7C5-272C-492C-97AD-2AB6884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A5B-A7BC-44B8-9EF3-AA77668B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207-E531-4119-87F1-9C0EA587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4F8-5531-4469-88CF-782D7883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FA9-86A8-4561-A216-C5D8B4E5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7B2-79FE-49E4-9471-FC6837B1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D70-0C5D-4A58-B527-70F59A39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C0E-A51E-4AD0-A796-6FF34EDC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11D75-6B39-4B43-AC82-4531521907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