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45916"/>
        <c:axId val="55892206"/>
      </c:barChart>
      <c:catAx>
        <c:axId val="75745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92206"/>
        <c:crosses val="autoZero"/>
        <c:auto val="1"/>
        <c:lblAlgn val="ctr"/>
        <c:lblOffset val="100"/>
        <c:noMultiLvlLbl val="0"/>
      </c:catAx>
      <c:valAx>
        <c:axId val="55892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45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283-8A15-4BF8-8310-75EB7A16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FD8-DC0A-499B-8DE6-467000C4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AEB-0B78-4820-998F-57E8FB4D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43B-1B01-4DF8-AB05-09C8BD79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DB1-0DC1-4DD5-A89D-84E16F2B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25A-FDB4-42ED-B43A-86C83E6C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F0F-6E6F-4009-9992-B7EFD52B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572-C0CE-47CC-A909-C46175CD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9A4-BCB4-46CF-8728-87EA2ADC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9BF7-BFC4-4E9A-BCE4-F4827052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24E-CBED-44CD-9DA5-1080C7F9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DA1-F2AD-4C5C-B48C-F86E7E12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07E9D-8662-4770-886C-3D8B2B16FA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