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086870"/>
        <c:axId val="755076"/>
      </c:barChart>
      <c:catAx>
        <c:axId val="860868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076"/>
        <c:crosses val="autoZero"/>
        <c:auto val="1"/>
        <c:lblAlgn val="ctr"/>
        <c:lblOffset val="100"/>
        <c:noMultiLvlLbl val="0"/>
      </c:catAx>
      <c:valAx>
        <c:axId val="755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0868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7708-C5D9-4E56-ABBE-DB22E5A91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411C-C5E3-497B-BBFC-06D616DC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7369-52BD-46CF-A93A-6CB9B3AD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C410-7BB8-48AC-A436-0A7D163D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84A4-DB2D-4C2B-B8AD-0EA74B41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9511-A0AE-42C8-B7DC-C0E6765D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CD2-4BF6-47E2-9103-B903E193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755-72B9-4ACB-8D12-5C2D7D1D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3B5-4A44-4FA2-BB1B-0148D22B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964D-097C-4DB1-BE4B-161771AE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C1EC-0E3E-45AC-BD4C-21FE3CE3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FEC9-9FD2-4464-9D6A-99C4E2D3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452F3-ECA2-4402-939E-75DB1A9BB94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