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276420"/>
        <c:axId val="98868263"/>
      </c:barChart>
      <c:catAx>
        <c:axId val="292764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68263"/>
        <c:crosses val="autoZero"/>
        <c:auto val="1"/>
        <c:lblAlgn val="ctr"/>
        <c:lblOffset val="100"/>
        <c:noMultiLvlLbl val="0"/>
      </c:catAx>
      <c:valAx>
        <c:axId val="988682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764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210C-BD6F-4508-903F-88A29C231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1485-2766-47A1-A460-8C2F6A17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53AF-BDAB-4615-9884-891A599FC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2DA9-F3EE-4C30-841A-2E74E547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ADCE-8202-4572-A5E2-0D9EE8E4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793E-A08F-480A-95F6-7C76B140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D6BE-A233-40D7-9D5E-DF6E93E2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D67F-C760-49C9-A50F-DECBF33A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E5CE-4721-41D3-BC75-82CC734A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9620-A015-4D1C-88EF-D3ADE0D4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3002-6A44-404F-BA8A-746A5EF1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13D0-760A-4330-BEE0-CA0C45D3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C65D3-B2CC-4E2F-B046-81174A539B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