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21690"/>
        <c:axId val="33418631"/>
      </c:barChart>
      <c:catAx>
        <c:axId val="42321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18631"/>
        <c:crosses val="autoZero"/>
        <c:auto val="1"/>
        <c:lblAlgn val="ctr"/>
        <c:lblOffset val="100"/>
        <c:noMultiLvlLbl val="0"/>
      </c:catAx>
      <c:valAx>
        <c:axId val="33418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21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D83-977F-4CA4-A822-F5150014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BD4-57E4-455C-B1B2-C04CC3C2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E4E-E494-4A5A-A26C-F5D8DB09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59E-3371-4D1B-93FC-3CDBB2B7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2BA-3515-4763-A59D-B870EBA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838-BD32-4413-A77B-66FAA86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EDF-DA6F-414C-803D-AD19AD0F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A50-05B7-425E-9746-CE0113D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D9F-AF29-475D-9825-ED6CCFD6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678-56BF-4525-938F-508D7D0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A97-C1C1-47B6-9A7C-D0D644B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16E-47A4-420A-A564-53F0E3B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ADD86-BC30-460E-9476-87937B32E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