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165576"/>
        <c:axId val="33786487"/>
      </c:barChart>
      <c:catAx>
        <c:axId val="61655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786487"/>
        <c:crosses val="autoZero"/>
        <c:auto val="1"/>
        <c:lblAlgn val="ctr"/>
        <c:lblOffset val="100"/>
        <c:noMultiLvlLbl val="0"/>
      </c:catAx>
      <c:valAx>
        <c:axId val="337864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655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C32D-96AD-4EC1-8E35-1A2C1A194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B5BF0-B7DE-4342-8D0E-8361F8353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9129-6C09-463D-B2F2-940B1723E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8409-4FF1-4889-BCB2-31077E1C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3637-B3E8-437D-94BF-71D8B9E1B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858E-6CB2-4B2D-BC1D-94D8DF8AB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86ADD-A1C5-4310-ABC5-EF6B7B7BF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171D-A8AE-4E1A-976B-5F8AEF70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1F7-5735-42D5-90E6-7FB9849E0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C1B6-73F4-4A26-AB03-2D41542E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104D-0931-4488-A6D1-C902FB77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A4A1-3394-4C3F-88D6-98824DB4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C436D3-7C83-4F27-A45A-E6DAF4BECCB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