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73141"/>
        <c:axId val="62845680"/>
      </c:barChart>
      <c:catAx>
        <c:axId val="34073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45680"/>
        <c:crosses val="autoZero"/>
        <c:auto val="1"/>
        <c:lblAlgn val="ctr"/>
        <c:lblOffset val="100"/>
        <c:noMultiLvlLbl val="0"/>
      </c:catAx>
      <c:valAx>
        <c:axId val="62845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73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F31-5D5D-4857-96CE-F1F2F461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0A0-4BB7-4529-AF87-51C2E866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8F3-023F-44A8-907F-575B415B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D0A-E049-49C0-91BA-41DF7E62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50D-AB8A-46DF-8778-9EF05F29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40B-903E-454F-A1B0-7A2F4AA8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FAB-64E9-4141-B604-738474F4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118-74F0-4F39-AF06-DC94DF8E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D1F-E319-4553-9E49-B522F122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2CE-96CD-4EAD-BA9B-DBC927A0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784-B40C-4A83-8360-9C537021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C58-6521-4BED-A2BA-53DF2E27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19678-0C49-4322-8E61-66FD7523E7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