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29940"/>
        <c:axId val="49397160"/>
      </c:barChart>
      <c:catAx>
        <c:axId val="44029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97160"/>
        <c:crosses val="autoZero"/>
        <c:auto val="1"/>
        <c:lblAlgn val="ctr"/>
        <c:lblOffset val="100"/>
        <c:noMultiLvlLbl val="0"/>
      </c:catAx>
      <c:valAx>
        <c:axId val="49397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29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68D-7468-4334-B9C9-76482A32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5BD-F339-4E8D-A341-03309386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729-B701-418F-AEC8-D97FAEA1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4D4-E7A3-42CC-B4C6-1F7DFA78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86F-D1B5-4CC3-B611-92B54615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311-0684-4F59-B3F0-912F28DC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7B8-B7B8-44BE-B4F5-DC5BFD07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58C-3C85-43FA-B8C4-073D9E70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CCA-DFC8-41FE-8080-9F1ACDF3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B02-FBF1-47B1-B6DD-037F319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0BB-BC30-4707-A4F6-1508590B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F40A-4330-4E88-9D35-8CFFDCD5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08AE7-3379-456E-9078-63A6E7F43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