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4074683"/>
        <c:axId val="2908745"/>
      </c:barChart>
      <c:catAx>
        <c:axId val="4407468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08745"/>
        <c:crosses val="autoZero"/>
        <c:auto val="1"/>
        <c:lblAlgn val="ctr"/>
        <c:lblOffset val="100"/>
        <c:noMultiLvlLbl val="0"/>
      </c:catAx>
      <c:valAx>
        <c:axId val="290874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07468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A1D77-EC67-4115-AE55-1938012F2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6C4BF-7926-49F5-89CB-B840D0C59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3BBE9-D559-4F56-A219-6E3B6A85F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9C208-0533-45A5-9E1A-873EFB013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C3A72-F64A-4C2D-BF59-D7ABBDC6E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0D0D1-A899-4266-A0A7-E10566BB6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080EF-4CAD-4776-944C-E30D5230C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34EF8-7E4F-4658-B7A6-01EC91068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182BD-E52B-4E93-93CC-563A7FBA8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2955A-AC99-41C3-8D5E-89DC518E5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F9DA3-7E0C-4940-ADF5-BF2D112AA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BAA8D-0092-4910-ABBB-224F92804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3E49EB-5ED6-487F-8A95-7EFA745E581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