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33134"/>
        <c:axId val="47443383"/>
      </c:barChart>
      <c:catAx>
        <c:axId val="58833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43383"/>
        <c:crosses val="autoZero"/>
        <c:auto val="1"/>
        <c:lblAlgn val="ctr"/>
        <c:lblOffset val="100"/>
        <c:noMultiLvlLbl val="0"/>
      </c:catAx>
      <c:valAx>
        <c:axId val="47443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33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906-D4C9-4044-A6EB-05CC293D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F5F-9991-4244-8FE3-C46BE6DC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47E-BF21-4AD4-92A8-6B745349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261-B206-4F6F-993C-A613860C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C67-E8C9-47B4-AAF2-F5B18EBB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F4B-9585-408B-AA67-523FCF4C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15B-A3F1-4063-8FA1-345F6B7D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03E-BAE5-4475-9C66-46B0CB4E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01B-2CAA-49B2-9AB8-D5DEE507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511-44D8-4580-93A8-E34E92FE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3C3-0E81-47B1-9193-3E185575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2D8-99A4-47B1-BD6F-F17D5F40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8D74A-92ED-4047-88AB-72D03FC77C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