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42119"/>
        <c:axId val="50633"/>
      </c:barChart>
      <c:catAx>
        <c:axId val="44421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33"/>
        <c:crosses val="autoZero"/>
        <c:auto val="1"/>
        <c:lblAlgn val="ctr"/>
        <c:lblOffset val="100"/>
        <c:noMultiLvlLbl val="0"/>
      </c:catAx>
      <c:valAx>
        <c:axId val="50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21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742D-0EB0-460A-B9E4-5422AC9D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92C1-BFA1-4A42-B17E-2A0D6FBB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93E5-178C-44D3-9944-C927D16C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0BA-10A3-4192-B7A2-84650528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85B3-E737-48ED-B025-330ADC81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398A-3E0F-41C6-A054-F8BF807C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2493-C115-4B40-997E-6E13EC08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CD00-E549-49B1-9A59-7336AC70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AE40-9F9B-49CA-9C91-135C7242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1D57-24DC-4CD3-9482-94A09082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CFB2-626A-4465-9516-D216E663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E886-C99D-419E-B57F-66C5F680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20837-6C87-4AA2-A1DB-2F8B8864E4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