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18680"/>
        <c:axId val="43717145"/>
      </c:barChart>
      <c:catAx>
        <c:axId val="73118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17145"/>
        <c:crosses val="autoZero"/>
        <c:auto val="1"/>
        <c:lblAlgn val="ctr"/>
        <c:lblOffset val="100"/>
        <c:noMultiLvlLbl val="0"/>
      </c:catAx>
      <c:valAx>
        <c:axId val="43717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8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B1A-FB8D-4DD4-AD3A-0B9118D1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B58-939C-46A6-AEB0-B99DA646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B1C-FF36-41B7-B7B4-F982E890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EC8-66F3-4889-8395-F38C91C6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055-3A5E-47D7-A286-2927221F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3AB-84DC-48CB-9D6F-48F7A792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B70-0272-4000-8047-E78B216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CF7-D2E3-4714-9996-C5DD14E8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1EF-DB02-4943-AE4C-8D0BA069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E4E-98C0-44F7-B595-9E845E4F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529-1BD2-4E2C-8614-738BE08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B5F-51BF-4F87-AEBF-84C62788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D1E9D-A22B-4840-8724-3ECD3CD8D8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