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72320"/>
        <c:axId val="44333910"/>
      </c:barChart>
      <c:catAx>
        <c:axId val="96072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3910"/>
        <c:crosses val="autoZero"/>
        <c:auto val="1"/>
        <c:lblAlgn val="ctr"/>
        <c:lblOffset val="100"/>
        <c:noMultiLvlLbl val="0"/>
      </c:catAx>
      <c:valAx>
        <c:axId val="44333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2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67F-1590-4A1A-AB76-065009E7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AC9-67FE-4200-AF4A-B4FD336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EAB-6329-4A7C-BF2E-44607F0F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5DF-7165-4F5F-8083-C9F339E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C34-EA7C-4743-8DF2-29E393C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77D-0D49-47A7-B821-D41C758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CD9-C930-4DD7-9D76-7C98D37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FC5-8C21-4F77-AAD6-9ECFA68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0BC-ED92-4F16-9479-BC0D6407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17A-644E-4927-AF8E-FB20F7D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B5A-113F-457E-B64E-DFE0777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000-C869-44CC-A76D-D3FAF3C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53C56-8778-4BD0-B0B9-F698465F2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