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5061"/>
        <c:axId val="93424449"/>
      </c:barChart>
      <c:catAx>
        <c:axId val="8495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24449"/>
        <c:crosses val="autoZero"/>
        <c:auto val="1"/>
        <c:lblAlgn val="ctr"/>
        <c:lblOffset val="100"/>
        <c:noMultiLvlLbl val="0"/>
      </c:catAx>
      <c:valAx>
        <c:axId val="93424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5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B0F-05B3-4D40-9185-EB08FB1D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968-8B65-4E0B-B25F-DC84C00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F14-BF13-438E-8783-E93FDAD4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818-EDD0-40A7-9F82-39F3EC36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774-E470-4D91-A0E0-F2B17294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A40-E603-4C12-A9C1-59443A9A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CFE-96C9-45BC-92BC-48C87670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114-53BE-4A40-926D-A8AEC463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58B-8E4A-41D4-BB12-440177B4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9E8-090B-4543-9F49-2BA19E3E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0B2-9615-4A3E-B45B-6183FCC0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179-548B-4FF0-8DF2-3CD57CE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0C2D0-9225-407C-A715-CA6314233C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