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06539"/>
        <c:axId val="62931574"/>
      </c:barChart>
      <c:catAx>
        <c:axId val="10406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31574"/>
        <c:crosses val="autoZero"/>
        <c:auto val="1"/>
        <c:lblAlgn val="ctr"/>
        <c:lblOffset val="100"/>
        <c:noMultiLvlLbl val="0"/>
      </c:catAx>
      <c:valAx>
        <c:axId val="62931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06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40E-B68B-4A8B-BEDC-28FBCB43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390-99C7-4B15-8C5F-47B1DC0D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B55-60FB-44C3-AFBA-9B88EE71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A152-0306-4673-87F4-1179F0FE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C4C-9893-4B34-9E45-4E37BF45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629-BC85-4230-95E0-728C6108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A76-CEE5-4686-9D87-4FE2642B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D229-5A16-4E21-B3E9-C9A04FBC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A7C-5FD9-4227-A387-CE322CB0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536-ECF4-494B-94CF-1FDB4A69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B8B7-0A1E-4062-B4EF-2756DFEA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D55-7236-48BE-BB63-959CB134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67A0D-1855-4818-8B8A-BB509782E7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