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86673"/>
        <c:axId val="75642864"/>
      </c:barChart>
      <c:catAx>
        <c:axId val="28486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42864"/>
        <c:crosses val="autoZero"/>
        <c:auto val="1"/>
        <c:lblAlgn val="ctr"/>
        <c:lblOffset val="100"/>
        <c:noMultiLvlLbl val="0"/>
      </c:catAx>
      <c:valAx>
        <c:axId val="75642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86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FD4-52AE-406F-AD29-4515CB09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78E8-3CA7-4F2B-BC85-5608A82A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3F30-FA07-4DEF-8624-00AC1A43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3D4-CB00-471E-B10E-4AC205A1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0A9-206E-4D37-9394-FDC2BD20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AEB-EBB8-4B25-96F5-345652D2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F6E8-DB13-40FC-8991-A1C5CFC3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0E2-05DF-4225-9188-8CB0F02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97CB-E5F4-484F-925F-D7D4F63C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27A-B82A-4F80-8755-17B5FFD6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D84-46FE-4BF1-A001-BFD0BF5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84B-A2FB-46F6-87D7-D7AA0E80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EFC43-FF09-4802-A34A-D558FC93A7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