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54576"/>
        <c:axId val="31172073"/>
      </c:barChart>
      <c:catAx>
        <c:axId val="60054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2073"/>
        <c:crosses val="autoZero"/>
        <c:auto val="1"/>
        <c:lblAlgn val="ctr"/>
        <c:lblOffset val="100"/>
        <c:noMultiLvlLbl val="0"/>
      </c:catAx>
      <c:valAx>
        <c:axId val="31172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4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209-C4A3-4684-8617-BC6FAF8E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6C4-5AAD-4C57-96F3-C5114721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5DF-9720-459C-9D93-928DF2D5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798-1854-443F-895B-6D4FA157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0FD-175A-4615-9582-A8A4909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51C-2A71-41ED-843A-B50596C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F50-C7C8-4288-BA78-0C51C66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E31-6610-4943-BFEF-7E02886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B32-09F4-40EA-B661-A7FD832F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601-EDAC-45D7-B1EA-9A71ED1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3D4-FB42-4DFF-975A-FFCEE29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AE6-2927-423C-AE97-EDEF696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5D08-8BF2-4393-A96E-286644533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