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48522"/>
        <c:axId val="74617690"/>
      </c:barChart>
      <c:catAx>
        <c:axId val="81348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17690"/>
        <c:crosses val="autoZero"/>
        <c:auto val="1"/>
        <c:lblAlgn val="ctr"/>
        <c:lblOffset val="100"/>
        <c:noMultiLvlLbl val="0"/>
      </c:catAx>
      <c:valAx>
        <c:axId val="74617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48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EEF-84D4-4475-80B6-221BE2CB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B30-B945-4887-B412-AEFE136B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24E-39D4-46D8-987F-AE352FB8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FE0-549C-488D-8A5F-59469CF2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9E6-C428-441E-94AA-58805F57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AC9-9C2B-41EC-920F-BC2E8916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282-B3FB-40E5-B59F-B58CC0EF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EE9-B609-472E-B013-BC0EC549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9E0-3A25-42A1-8C0A-25CCB924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C03-BC54-40A8-9ED2-26CE8827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96A-FE36-49A2-A069-7C5D9C5E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021-496C-49B8-99B1-72C707C2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16DCA-6DA5-4A03-864B-F725C61544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