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30759"/>
        <c:axId val="79335247"/>
      </c:barChart>
      <c:catAx>
        <c:axId val="19430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35247"/>
        <c:crosses val="autoZero"/>
        <c:auto val="1"/>
        <c:lblAlgn val="ctr"/>
        <c:lblOffset val="100"/>
        <c:noMultiLvlLbl val="0"/>
      </c:catAx>
      <c:valAx>
        <c:axId val="79335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30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010-CD75-437B-999F-C9524794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720-8A39-480C-A3E7-5E5A873C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794F-AEB8-4100-8E7E-063B8B2E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2F5-23FC-4B6D-9325-F1CA3DC9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91A-07A1-4FD2-858F-8A83B3CD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725-0938-4CC8-A955-B96E08D3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3CC-BDE0-4B1F-9144-95502200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03A-ACBA-46EE-B8CC-26516170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A404-E7EE-4180-BF94-28001B18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F6D-346E-4556-BF5A-8AEEC858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746-271E-454E-BC02-A131EB63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140-D789-446C-91A9-632D724D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E4194-D53D-4D55-994F-4140CA783D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