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36039"/>
        <c:axId val="85517078"/>
      </c:barChart>
      <c:catAx>
        <c:axId val="36736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17078"/>
        <c:crosses val="autoZero"/>
        <c:auto val="1"/>
        <c:lblAlgn val="ctr"/>
        <c:lblOffset val="100"/>
        <c:noMultiLvlLbl val="0"/>
      </c:catAx>
      <c:valAx>
        <c:axId val="85517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36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7CE-E98F-47DF-86E5-9684A271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BE9-A9E0-4835-912B-61ABE187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935-AB50-4B43-9E01-F172B507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C98-511E-4201-A8F0-C55CD1CF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6DC-2DA9-4FC0-928E-6910C1AD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A12-F463-40DE-8427-0FB3547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ECD-153F-47AB-A87E-F5C83FA5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766-F68A-4D71-AE04-8DDDA7C6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B94-ADB8-4D1A-BB6A-1DCAE027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F1F-F6FD-4723-A7B3-63C4A048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B96-3594-4C46-94FF-C031A3A3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AF4-7D20-4F73-8646-816435A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DB5EE-55E1-43FC-A29B-126B7BCD0F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