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3414"/>
        <c:axId val="88355340"/>
      </c:barChart>
      <c:catAx>
        <c:axId val="40883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5340"/>
        <c:crosses val="autoZero"/>
        <c:auto val="1"/>
        <c:lblAlgn val="ctr"/>
        <c:lblOffset val="100"/>
        <c:noMultiLvlLbl val="0"/>
      </c:catAx>
      <c:valAx>
        <c:axId val="88355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3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C3F-99E0-40A8-9B16-0A3B2A25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DC6-3FCA-4124-85F8-53F703C8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AE2-FB38-4B1B-A7F1-EDE09A50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7A5-BE0C-4341-A24A-CC4039B9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D4F-53C6-4D95-B981-FD3F452D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610-0017-4D64-8664-A8388FE7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305-9ECF-4F48-9341-A1AD9B5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CB6-1544-4EDC-93D3-DE8CD1D6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D93-FFAA-470D-BB44-4AD9A55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420-82B0-4D7E-B0E5-04AC9AB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DC6-237B-47E5-B05F-BB3436B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677-04DC-4D7A-863D-7A7EABF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1A29D-DFE1-4815-8E91-7D79A9285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