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502623"/>
        <c:axId val="81407517"/>
      </c:barChart>
      <c:catAx>
        <c:axId val="515026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407517"/>
        <c:crosses val="autoZero"/>
        <c:auto val="1"/>
        <c:lblAlgn val="ctr"/>
        <c:lblOffset val="100"/>
        <c:noMultiLvlLbl val="0"/>
      </c:catAx>
      <c:valAx>
        <c:axId val="814075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5026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4D61-7B61-4B8E-B938-F8078CDE4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04934-A4AA-4C69-B715-8057FF819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D9F04-CB50-41A6-89D7-302063D98D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60381-E2CA-487C-9670-04FF41A02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2C535-F6A1-4226-98C3-61EB6192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04F1-6C0C-43E9-ADDD-BE0649AC0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A4DD3-7B6A-4B89-88A5-9556A4F5B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AEEE-BCE2-44BF-A432-989147F7C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CA0B7-DC3E-40FA-9A8E-F93B26AF3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CC03-53F2-4F7D-9628-8E622D723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61BF-472C-4F53-B58A-AF8FABECA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F0B41-3973-450D-9CFF-1A1C0DCA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0CE6223-B146-4781-8774-E3A3854DCAA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