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168624"/>
        <c:axId val="58921483"/>
      </c:barChart>
      <c:catAx>
        <c:axId val="491686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21483"/>
        <c:crosses val="autoZero"/>
        <c:auto val="1"/>
        <c:lblAlgn val="ctr"/>
        <c:lblOffset val="100"/>
        <c:noMultiLvlLbl val="0"/>
      </c:catAx>
      <c:valAx>
        <c:axId val="589214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686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03FD-994D-46E5-BA90-8A95EB58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480B-B0AC-4126-BEA9-8528BB42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839B-F355-468A-AE1E-01EA59A14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AE72-2F31-4F4D-9929-DD2BD3B43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47E3-1D39-42C3-958E-717FEF47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2E10-B478-401D-AC4D-5991C301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B89E-47CD-4C75-883E-6AC8E359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42BF-E5A5-473F-B78E-E5403D0B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2E2C-F933-4C6C-A9F2-31FD003F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121D-D22A-49A9-BFD4-8BC9C852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2973-0D64-42FB-B3F9-527E3404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C81F-EDCE-437E-8F75-44FF7529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F4C07-2AE2-4658-A9A6-D874C0C173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