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31994"/>
        <c:axId val="96096029"/>
      </c:barChart>
      <c:catAx>
        <c:axId val="17331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6029"/>
        <c:crosses val="autoZero"/>
        <c:auto val="1"/>
        <c:lblAlgn val="ctr"/>
        <c:lblOffset val="100"/>
        <c:noMultiLvlLbl val="0"/>
      </c:catAx>
      <c:valAx>
        <c:axId val="96096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1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C6B-4D1E-4D90-817A-74FFDD5F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827-0EC5-445F-8722-C3C6C94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28A-D3FB-4C3D-B699-B755D214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736-A37C-4E98-ABCC-5D483D4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CEB-F601-47C8-98F6-A4FB7C9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F78-EDFB-40D0-B23B-533C14E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43B-9254-426A-962B-0B99477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55-90F3-45E5-B3C7-CE9B73B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C78-1479-4B23-9287-E1A3ED94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D7B-0F41-4FB2-BD0D-18DE794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1CE-0094-4A4B-A966-99AFD2E2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B0F-535D-4811-9BBA-28FAD8B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DBDC7-C73D-48A7-B70B-4FC3AF5D99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