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31100"/>
        <c:axId val="36273588"/>
      </c:barChart>
      <c:catAx>
        <c:axId val="983311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273588"/>
        <c:crosses val="autoZero"/>
        <c:auto val="1"/>
        <c:lblAlgn val="ctr"/>
        <c:lblOffset val="100"/>
        <c:noMultiLvlLbl val="0"/>
      </c:catAx>
      <c:valAx>
        <c:axId val="362735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311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583B-8DD0-4DB7-8393-8C1E2C965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04B3-79FB-465A-BC46-ECEBE66D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F212-437D-4C40-B1FB-26DB14175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58F1-AD47-4706-8EEE-170B8A714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9340-02F4-4530-B0C9-D9F612BE9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C9F-A11A-46D3-9BFB-B917568E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D91B-AD69-435A-B6F6-42C87D321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12A0E-8DBE-495F-95AF-45E1DAC86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359B5-17CB-44D9-84D0-DC26B8F8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0FC84-E7BD-4F1C-B5F9-09EA3878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4E9E-E3E5-48D3-8993-645F7295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6D78-22E4-4AC1-8052-00E8C38B8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63264-9A05-47CF-99A9-DB69DECA6C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